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1.wmf" ContentType="image/x-wmf"/>
  <Override PartName="/ppt/media/image9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0.png" ContentType="image/png"/>
  <Override PartName="/ppt/media/image5.jpeg" ContentType="image/jpeg"/>
  <Override PartName="/ppt/media/image4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png" ContentType="image/png"/>
  <Override PartName="/ppt/media/image15.png" ContentType="image/png"/>
  <Override PartName="/ppt/media/image14.png" ContentType="image/png"/>
  <Override PartName="/ppt/media/image2.jpeg" ContentType="image/jpeg"/>
  <Override PartName="/ppt/media/image3.wmf" ContentType="image/x-wmf"/>
  <Override PartName="/ppt/media/image8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3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BE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D0D4C-5DC8-4D55-ACB1-C3BAFA8CD2D0}" type="datetime">
              <a:rPr b="0" lang="nl-BE" sz="1200" spc="-1" strike="noStrike">
                <a:solidFill>
                  <a:srgbClr val="000000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700200" y="4414680"/>
            <a:ext cx="5610240" cy="41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4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5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BE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94064-E127-49D1-B5FE-860031403167}" type="slidenum">
              <a:rPr b="0" lang="nl-B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700200" y="4414680"/>
            <a:ext cx="561024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2A5B7-AD25-4903-B0AE-96D1757E0C87}" type="slidenum">
              <a:rPr b="0" lang="nl-B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Header Placeholder 4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Calibri"/>
              </a:rPr>
              <a:t>INSPIRE PRESENTATION; 24/04/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00200" y="4414680"/>
            <a:ext cx="561024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Header Placeholder 3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Calibri"/>
              </a:rPr>
              <a:t>INSPIRE PRESENTATION; 24/04/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lide Number Placeholder 4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5A9FF-696C-44ED-9651-45BD9AD60EE8}" type="slidenum">
              <a:rPr b="0" lang="nl-B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00200" y="4414680"/>
            <a:ext cx="561024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Header Placeholder 3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Calibri"/>
              </a:rPr>
              <a:t>INSPIRE PRESENTATION; 24/04/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lide Number Placeholder 4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CAB7E-73D8-4AD6-AD82-5FE1453BC1B7}" type="slidenum">
              <a:rPr b="0" lang="nl-B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8"/>
          <p:cNvSpPr/>
          <p:nvPr/>
        </p:nvSpPr>
        <p:spPr>
          <a:xfrm>
            <a:off x="3970440" y="8829720"/>
            <a:ext cx="30351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7520" bIns="47520" anchor="b">
            <a:noAutofit/>
          </a:bodyPr>
          <a:p>
            <a:pPr algn="r">
              <a:tabLst>
                <a:tab algn="l" pos="0"/>
                <a:tab algn="l" pos="455760"/>
                <a:tab algn="l" pos="914400"/>
                <a:tab algn="l" pos="1371600"/>
                <a:tab algn="l" pos="1828800"/>
                <a:tab algn="l" pos="2287440"/>
                <a:tab algn="l" pos="2744640"/>
                <a:tab algn="l" pos="3203640"/>
                <a:tab algn="l" pos="3660840"/>
                <a:tab algn="l" pos="4118040"/>
                <a:tab algn="l" pos="4576680"/>
                <a:tab algn="l" pos="5033880"/>
                <a:tab algn="l" pos="5492880"/>
                <a:tab algn="l" pos="5950080"/>
                <a:tab algn="l" pos="6407280"/>
                <a:tab algn="l" pos="6865920"/>
                <a:tab algn="l" pos="7323120"/>
                <a:tab algn="l" pos="7780320"/>
                <a:tab algn="l" pos="8238960"/>
                <a:tab algn="l" pos="8696160"/>
                <a:tab algn="l" pos="9155160"/>
                <a:tab algn="l" pos="9601200"/>
                <a:tab algn="l" pos="10058400"/>
                <a:tab algn="l" pos="10515600"/>
              </a:tabLst>
            </a:pPr>
            <a:fld id="{E06BDE35-F9BA-4F5E-842F-8E969873AC72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1"/>
          <p:cNvSpPr/>
          <p:nvPr/>
        </p:nvSpPr>
        <p:spPr>
          <a:xfrm>
            <a:off x="1168560" y="696960"/>
            <a:ext cx="46735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55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ga-IE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200" spc="-1" strike="noStrike">
                <a:solidFill>
                  <a:srgbClr val="898989"/>
                </a:solidFill>
                <a:latin typeface="Arial"/>
              </a:rPr>
              <a:t>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Box 7"/>
          <p:cNvSpPr/>
          <p:nvPr/>
        </p:nvSpPr>
        <p:spPr>
          <a:xfrm>
            <a:off x="2843280" y="6400800"/>
            <a:ext cx="352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INK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ministrative &amp; Finance over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Box 8"/>
          <p:cNvSpPr/>
          <p:nvPr/>
        </p:nvSpPr>
        <p:spPr>
          <a:xfrm>
            <a:off x="457200" y="6400800"/>
            <a:ext cx="2514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1" lang="ga-IE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3</a:t>
            </a:r>
            <a:r>
              <a:rPr b="1" lang="ga-IE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11" descr="eun_partnership"/>
          <p:cNvPicPr/>
          <p:nvPr/>
        </p:nvPicPr>
        <p:blipFill>
          <a:blip r:embed="rId2"/>
          <a:stretch/>
        </p:blipFill>
        <p:spPr>
          <a:xfrm>
            <a:off x="0" y="0"/>
            <a:ext cx="2482920" cy="1077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4.jpeg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6426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INKED</a:t>
            </a:r>
            <a:br>
              <a:rPr sz="4400"/>
            </a:b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Leveraging Innovation for a Network of Knowledge on Educ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971280" y="2707920"/>
            <a:ext cx="764388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Calibri"/>
              </a:rPr>
              <a:t>LIFE LONG LEARNING PROGRAMME LLP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Calibri"/>
              </a:rPr>
              <a:t>ADMINISTRATIVE &amp; FINANCIAL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Calibri"/>
              </a:rPr>
              <a:t>OVERVIEW FOR PARTN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A0A41-78A3-4176-9DA3-491D7A78DFE6}" type="slidenum">
              <a:rPr b="0" lang="nl-BE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General Principles of Eligibility (II.14.1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529920" y="1285560"/>
            <a:ext cx="82184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Reported costs are actual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(real) costs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– not just estimated or budgeted cos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Respect principle of economy and cost effectiven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Incurred during the duration of the project (February 1st 2010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31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alibri"/>
              </a:rPr>
              <a:t>st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January 2011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Recorded and verifiable in the accounts of the Partn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Calibri"/>
              </a:rPr>
              <a:t>Must be connected with the execution of the proj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Slide Number Placeholder 1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5C189-5430-4880-8731-6D05DDA5B1C5}" type="slidenum">
              <a:rPr b="0" lang="nl-BE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3"/>
          <p:cNvSpPr/>
          <p:nvPr/>
        </p:nvSpPr>
        <p:spPr>
          <a:xfrm>
            <a:off x="539640" y="1341360"/>
            <a:ext cx="822960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Direct Cost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6" descr="personnel.jpg"/>
          <p:cNvPicPr/>
          <p:nvPr/>
        </p:nvPicPr>
        <p:blipFill>
          <a:blip r:embed="rId1"/>
          <a:stretch/>
        </p:blipFill>
        <p:spPr>
          <a:xfrm>
            <a:off x="380880" y="2502000"/>
            <a:ext cx="2346480" cy="27558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7" descr="travel.jpg"/>
          <p:cNvPicPr/>
          <p:nvPr/>
        </p:nvPicPr>
        <p:blipFill>
          <a:blip r:embed="rId2"/>
          <a:stretch/>
        </p:blipFill>
        <p:spPr>
          <a:xfrm>
            <a:off x="3429000" y="2286000"/>
            <a:ext cx="2367000" cy="17524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9" descr="eurostar.jpg"/>
          <p:cNvPicPr/>
          <p:nvPr/>
        </p:nvPicPr>
        <p:blipFill>
          <a:blip r:embed="rId3"/>
          <a:stretch/>
        </p:blipFill>
        <p:spPr>
          <a:xfrm>
            <a:off x="4648320" y="3797280"/>
            <a:ext cx="1638360" cy="20080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0" descr="hotel.jpg"/>
          <p:cNvPicPr/>
          <p:nvPr/>
        </p:nvPicPr>
        <p:blipFill>
          <a:blip r:embed="rId4"/>
          <a:stretch/>
        </p:blipFill>
        <p:spPr>
          <a:xfrm>
            <a:off x="2763720" y="3797280"/>
            <a:ext cx="1884600" cy="19843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2" descr="Consultancy.jpg"/>
          <p:cNvPicPr/>
          <p:nvPr/>
        </p:nvPicPr>
        <p:blipFill>
          <a:blip r:embed="rId5"/>
          <a:stretch/>
        </p:blipFill>
        <p:spPr>
          <a:xfrm>
            <a:off x="6762600" y="2133720"/>
            <a:ext cx="1860840" cy="15303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3" descr="conference.jpg"/>
          <p:cNvPicPr/>
          <p:nvPr/>
        </p:nvPicPr>
        <p:blipFill>
          <a:blip r:embed="rId6"/>
          <a:stretch/>
        </p:blipFill>
        <p:spPr>
          <a:xfrm>
            <a:off x="6458040" y="4611600"/>
            <a:ext cx="2361960" cy="1409760"/>
          </a:xfrm>
          <a:prstGeom prst="rect">
            <a:avLst/>
          </a:prstGeom>
          <a:ln w="0">
            <a:noFill/>
          </a:ln>
        </p:spPr>
      </p:pic>
      <p:sp>
        <p:nvSpPr>
          <p:cNvPr id="103" name="TextBox 14"/>
          <p:cNvSpPr/>
          <p:nvPr/>
        </p:nvSpPr>
        <p:spPr>
          <a:xfrm>
            <a:off x="539640" y="2057400"/>
            <a:ext cx="174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ersonne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15"/>
          <p:cNvSpPr/>
          <p:nvPr/>
        </p:nvSpPr>
        <p:spPr>
          <a:xfrm>
            <a:off x="3276720" y="1839960"/>
            <a:ext cx="278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vel &amp; subsistence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6"/>
          <p:cNvSpPr/>
          <p:nvPr/>
        </p:nvSpPr>
        <p:spPr>
          <a:xfrm>
            <a:off x="6743880" y="1687680"/>
            <a:ext cx="201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bcontracting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17"/>
          <p:cNvSpPr/>
          <p:nvPr/>
        </p:nvSpPr>
        <p:spPr>
          <a:xfrm>
            <a:off x="6400800" y="4241880"/>
            <a:ext cx="253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specific Costs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2"/>
          <p:cNvSpPr/>
          <p:nvPr/>
        </p:nvSpPr>
        <p:spPr>
          <a:xfrm>
            <a:off x="609480" y="15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Cost Categories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ga-IE" sz="3600" spc="-1" strike="noStrike">
                <a:solidFill>
                  <a:srgbClr val="000000"/>
                </a:solidFill>
                <a:latin typeface="Calibri"/>
              </a:rPr>
              <a:t>Direct Costs (II.14.2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68360" y="1412640"/>
            <a:ext cx="8229600" cy="515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Personnel </a:t>
            </a:r>
            <a:r>
              <a:rPr b="0" lang="ga-IE" sz="3600" spc="-1" strike="noStrike">
                <a:solidFill>
                  <a:srgbClr val="000000"/>
                </a:solidFill>
                <a:latin typeface="Calibri"/>
              </a:rPr>
              <a:t>Cos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ga-IE" sz="2400" spc="-1" strike="noStrike">
                <a:solidFill>
                  <a:srgbClr val="000000"/>
                </a:solidFill>
                <a:latin typeface="Calibri"/>
              </a:rPr>
              <a:t>1 Timesheet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 per </a:t>
            </a:r>
            <a:r>
              <a:rPr b="1" lang="ga-IE" sz="2400" spc="-1" strike="noStrike">
                <a:solidFill>
                  <a:srgbClr val="000000"/>
                </a:solidFill>
                <a:latin typeface="Calibri"/>
              </a:rPr>
              <a:t>person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 working on project (The timesheet template will be provided to you by EU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Report actual days spent working on the proj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Report actual daily rates of personn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BE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A0D91-FC2D-4400-AD55-D3784EA0E2AD}" type="slidenum">
              <a:rPr b="0" lang="nl-BE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6" descr="personnel.jpg"/>
          <p:cNvPicPr/>
          <p:nvPr/>
        </p:nvPicPr>
        <p:blipFill>
          <a:blip r:embed="rId1"/>
          <a:stretch/>
        </p:blipFill>
        <p:spPr>
          <a:xfrm>
            <a:off x="6959520" y="204840"/>
            <a:ext cx="2032200" cy="23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CBDB3-3E7D-492E-A7A8-65651DDF30BE}" type="slidenum">
              <a:rPr b="0" lang="nl-BE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115640" y="1711440"/>
            <a:ext cx="7343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BE" sz="3200" spc="-1" strike="noStrike">
                <a:solidFill>
                  <a:srgbClr val="000000"/>
                </a:solidFill>
                <a:latin typeface="Calibri"/>
              </a:rPr>
              <a:t>Personnel</a:t>
            </a:r>
            <a:r>
              <a:rPr b="0" lang="nl-BE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Calibri"/>
              </a:rPr>
              <a:t>You must not exceed the maximum rate as specified in the following tabl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4" descr="AA002733.png"/>
          <p:cNvPicPr/>
          <p:nvPr/>
        </p:nvPicPr>
        <p:blipFill>
          <a:blip r:embed="rId1"/>
          <a:stretch/>
        </p:blipFill>
        <p:spPr>
          <a:xfrm>
            <a:off x="1295280" y="334800"/>
            <a:ext cx="3121200" cy="19497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personnel.jpg"/>
          <p:cNvPicPr/>
          <p:nvPr/>
        </p:nvPicPr>
        <p:blipFill>
          <a:blip r:embed="rId2"/>
          <a:stretch/>
        </p:blipFill>
        <p:spPr>
          <a:xfrm>
            <a:off x="6959520" y="204840"/>
            <a:ext cx="2032200" cy="23860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216" descr=""/>
          <p:cNvPicPr/>
          <p:nvPr/>
        </p:nvPicPr>
        <p:blipFill>
          <a:blip r:embed="rId3"/>
          <a:stretch/>
        </p:blipFill>
        <p:spPr>
          <a:xfrm>
            <a:off x="539640" y="4365720"/>
            <a:ext cx="7964640" cy="95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ga-IE" sz="4400" spc="-1" strike="noStrike">
                <a:solidFill>
                  <a:srgbClr val="000000"/>
                </a:solidFill>
                <a:latin typeface="Calibri"/>
              </a:rPr>
              <a:t>Direct Costs (II.14.2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569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Trav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ravel 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tual &amp; Economical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Note :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travel from/to Non-EU/EEA countries needs prior approval from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INKED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project officer at the European Commiss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Slide Number Placeholder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05F54-39A5-46AF-A16E-69EF592DC21E}" type="slidenum">
              <a:rPr b="0" lang="nl-BE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7" descr="travel.jpg"/>
          <p:cNvPicPr/>
          <p:nvPr/>
        </p:nvPicPr>
        <p:blipFill>
          <a:blip r:embed="rId1"/>
          <a:stretch/>
        </p:blipFill>
        <p:spPr>
          <a:xfrm>
            <a:off x="6210360" y="685800"/>
            <a:ext cx="2628720" cy="17524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9" descr="eurostar.jpg"/>
          <p:cNvPicPr/>
          <p:nvPr/>
        </p:nvPicPr>
        <p:blipFill>
          <a:blip r:embed="rId2"/>
          <a:stretch/>
        </p:blipFill>
        <p:spPr>
          <a:xfrm>
            <a:off x="7429680" y="2197080"/>
            <a:ext cx="1638000" cy="109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Slide Number Placeholder 1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4EC33-6359-48AE-BBC1-1E965E73332D}" type="slidenum">
              <a:rPr b="0" lang="nl-BE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50920" y="40464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Calibri"/>
              </a:rPr>
              <a:t>TRAVEL EXPENS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94920" y="1071360"/>
            <a:ext cx="835812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BE" sz="3200" spc="-1" strike="noStrike">
                <a:solidFill>
                  <a:srgbClr val="000000"/>
                </a:solidFill>
                <a:latin typeface="Calibri"/>
              </a:rPr>
              <a:t>DON’T FORGET TO KEEP ALL PROOFS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Calibri"/>
              </a:rPr>
              <a:t>Travel agency invoices , online bookings or train tickets – prices must be clearly visib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Calibri"/>
              </a:rPr>
              <a:t>When flying please keep boarding car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Calibri"/>
              </a:rPr>
              <a:t>When submitting financial report, please show receipts for all claimed travel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Picture 3" descr=""/>
          <p:cNvPicPr/>
          <p:nvPr/>
        </p:nvPicPr>
        <p:blipFill>
          <a:blip r:embed="rId1"/>
          <a:stretch/>
        </p:blipFill>
        <p:spPr>
          <a:xfrm>
            <a:off x="357120" y="4071960"/>
            <a:ext cx="1681200" cy="23353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4" descr=""/>
          <p:cNvPicPr/>
          <p:nvPr/>
        </p:nvPicPr>
        <p:blipFill>
          <a:blip r:embed="rId2"/>
          <a:stretch/>
        </p:blipFill>
        <p:spPr>
          <a:xfrm>
            <a:off x="2214720" y="4071960"/>
            <a:ext cx="1857240" cy="23526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7" descr=""/>
          <p:cNvPicPr/>
          <p:nvPr/>
        </p:nvPicPr>
        <p:blipFill>
          <a:blip r:embed="rId3"/>
          <a:stretch/>
        </p:blipFill>
        <p:spPr>
          <a:xfrm>
            <a:off x="4286160" y="4071960"/>
            <a:ext cx="1619280" cy="2357280"/>
          </a:xfrm>
          <a:prstGeom prst="rect">
            <a:avLst/>
          </a:prstGeom>
          <a:ln w="0">
            <a:noFill/>
          </a:ln>
        </p:spPr>
      </p:pic>
      <p:sp>
        <p:nvSpPr>
          <p:cNvPr id="128" name="TextBox 10"/>
          <p:cNvSpPr/>
          <p:nvPr/>
        </p:nvSpPr>
        <p:spPr>
          <a:xfrm>
            <a:off x="539640" y="4005360"/>
            <a:ext cx="20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Calibri"/>
              </a:rPr>
              <a:t>Boarding ca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11"/>
          <p:cNvSpPr/>
          <p:nvPr/>
        </p:nvSpPr>
        <p:spPr>
          <a:xfrm>
            <a:off x="4067280" y="371628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Calibri"/>
              </a:rPr>
              <a:t>Invoice travel ag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2" descr=""/>
          <p:cNvPicPr/>
          <p:nvPr/>
        </p:nvPicPr>
        <p:blipFill>
          <a:blip r:embed="rId4"/>
          <a:srcRect l="16261" t="18310" r="54441" b="9083"/>
          <a:stretch/>
        </p:blipFill>
        <p:spPr>
          <a:xfrm>
            <a:off x="6357960" y="4071960"/>
            <a:ext cx="1643040" cy="2290680"/>
          </a:xfrm>
          <a:prstGeom prst="rect">
            <a:avLst/>
          </a:prstGeom>
          <a:ln w="0">
            <a:noFill/>
          </a:ln>
        </p:spPr>
      </p:pic>
      <p:sp>
        <p:nvSpPr>
          <p:cNvPr id="131" name="TextBox 13"/>
          <p:cNvSpPr/>
          <p:nvPr/>
        </p:nvSpPr>
        <p:spPr>
          <a:xfrm>
            <a:off x="6227640" y="3716280"/>
            <a:ext cx="221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Calibri"/>
              </a:rPr>
              <a:t>Online-booking 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ga-IE" sz="4400" spc="-1" strike="noStrike">
                <a:solidFill>
                  <a:srgbClr val="000000"/>
                </a:solidFill>
                <a:latin typeface="Calibri"/>
              </a:rPr>
              <a:t>Direct Costs (II.14.2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78920" y="1341360"/>
            <a:ext cx="8472600" cy="50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Subsistence</a:t>
            </a: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Calibri"/>
              </a:rPr>
              <a:t>Subsistence rate = per diem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Calibri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Calibri"/>
              </a:rPr>
              <a:t>Actual costs = reimbursement of receip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Calibri"/>
              </a:rPr>
              <a:t>You must be able to prove that you had an over night stay to claim the full day per diem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Calibri"/>
              </a:rPr>
              <a:t>Please submit hotel invoice with all travel and subsistence claim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Calibri"/>
              </a:rPr>
              <a:t>Rates to be used = the 07/07/2009 subsistence rates as detailed on the EC websi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ED093-967C-4A34-83B3-5EA1CBD39E98}" type="slidenum">
              <a:rPr b="0" lang="nl-BE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10" descr="hotel.jpg"/>
          <p:cNvPicPr/>
          <p:nvPr/>
        </p:nvPicPr>
        <p:blipFill>
          <a:blip r:embed="rId1"/>
          <a:stretch/>
        </p:blipFill>
        <p:spPr>
          <a:xfrm>
            <a:off x="7086600" y="304920"/>
            <a:ext cx="1884240" cy="198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ga-IE" sz="4400" spc="-1" strike="noStrike">
                <a:solidFill>
                  <a:srgbClr val="000000"/>
                </a:solidFill>
                <a:latin typeface="Calibri"/>
              </a:rPr>
              <a:t>Direct Costs (II.14.2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285560"/>
            <a:ext cx="82296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Subcontracting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200" spc="-1" strike="noStrike">
                <a:solidFill>
                  <a:srgbClr val="cc3300"/>
                </a:solidFill>
                <a:latin typeface="Calibri"/>
              </a:rPr>
              <a:t>No partner subcontracting </a:t>
            </a:r>
            <a:r>
              <a:rPr b="0" lang="fr-FR" sz="3200" spc="-1" strike="noStrike">
                <a:solidFill>
                  <a:srgbClr val="cc3300"/>
                </a:solidFill>
                <a:latin typeface="Calibri"/>
              </a:rPr>
              <a:t>costs have been foreseen in the LINKED budg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Written approval from the Commission is required if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Unforeseen subcontracting is requir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70DE2-B8CA-41D8-9616-C59960C82D23}" type="slidenum">
              <a:rPr b="0" lang="nl-BE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12" descr="Consultancy.jpg"/>
          <p:cNvPicPr/>
          <p:nvPr/>
        </p:nvPicPr>
        <p:blipFill>
          <a:blip r:embed="rId1"/>
          <a:stretch/>
        </p:blipFill>
        <p:spPr>
          <a:xfrm>
            <a:off x="7054920" y="298440"/>
            <a:ext cx="1860480" cy="153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ga-IE" sz="4400" spc="-1" strike="noStrike">
                <a:solidFill>
                  <a:srgbClr val="000000"/>
                </a:solidFill>
                <a:latin typeface="Calibri"/>
              </a:rPr>
              <a:t>Direct Costs (II.14.2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600200"/>
            <a:ext cx="8229600" cy="50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Other costs: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Costs for the organisation of workshops/conferen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Web site host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Web site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desig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Printing of dissemination materials at an external print compan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Software licens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ost of certification of financial statements (Audit certificat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Please provide invoices/proof of payment of all costs in this categor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8D95C-2D16-4E56-A16A-FD0A4E066DC1}" type="slidenum">
              <a:rPr b="0" lang="nl-BE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6" descr="conference.jpg"/>
          <p:cNvPicPr/>
          <p:nvPr/>
        </p:nvPicPr>
        <p:blipFill>
          <a:blip r:embed="rId1"/>
          <a:stretch/>
        </p:blipFill>
        <p:spPr>
          <a:xfrm>
            <a:off x="6199200" y="304920"/>
            <a:ext cx="2165400" cy="129384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4" descr="web-design2.jpg"/>
          <p:cNvPicPr/>
          <p:nvPr/>
        </p:nvPicPr>
        <p:blipFill>
          <a:blip r:embed="rId2"/>
          <a:stretch/>
        </p:blipFill>
        <p:spPr>
          <a:xfrm>
            <a:off x="7137360" y="990720"/>
            <a:ext cx="162576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Calibri"/>
              </a:rPr>
              <a:t>INDIRECT COSTS (II.14.3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60020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BE" sz="2400" spc="-1" strike="noStrike">
                <a:solidFill>
                  <a:srgbClr val="000000"/>
                </a:solidFill>
                <a:latin typeface="Calibri"/>
              </a:rPr>
              <a:t>UP TO 7% OF  THE TOTAL AMOUNT OF ALL ELIGIBLE DIRECT COS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BE" sz="2400" spc="-1" strike="noStrike">
                <a:solidFill>
                  <a:srgbClr val="000000"/>
                </a:solidFill>
                <a:latin typeface="Calibri"/>
              </a:rPr>
              <a:t>EXAMPLES OF INDIRECT COSTS 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Calibri"/>
              </a:rPr>
              <a:t>Equipment related to admin of the proj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Calibri"/>
              </a:rPr>
              <a:t>Communication cos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Calibri"/>
              </a:rPr>
              <a:t>Infrastructure costs (rent electricity heating) of premises where project is carried ou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Calibri"/>
              </a:rPr>
              <a:t>Office suppl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Calibri"/>
              </a:rPr>
              <a:t>Photocop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13D61-4A8C-438D-ABCF-2A8024A00489}" type="slidenum">
              <a:rPr b="0" lang="nl-BE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EUN Management Tea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500040" y="1428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s Coordinator: EUN Management Tea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atricia Wastia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roline Kearne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eo Guilfoy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ctr"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Our role in the project is t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ake charge of the 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technical, financial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and 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administrative coordination of the proj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Check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and 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submit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he deliverab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istribute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he fund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e an intermediary between the partners and the European Commissio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ctr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00107-BE93-4143-A706-2DEF1ED8548B}" type="slidenum">
              <a:rPr b="0" lang="nl-BE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4400" spc="-1" strike="noStrike">
                <a:solidFill>
                  <a:srgbClr val="000000"/>
                </a:solidFill>
                <a:latin typeface="Calibri"/>
              </a:rPr>
              <a:t>Ineligible costs (II.14.4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nder no circumstances can the following                                  types of costs be considered as eligible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Calibri"/>
              </a:rPr>
              <a:t>Return on capit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bt and debt service charg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visions for losses or potential future liabilities (provisions for contractual and moral obligations, fines, financial penalties and legal costs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AT (unless beneficiary unable to recover it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sts of opening and operating bank accou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sts declared by the beneficiary and covered by an other projec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60FC1-6178-4C9F-8F93-59046EBF0E2C}" type="slidenum">
              <a:rPr b="0" lang="nl-BE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11" descr="bank.jpg"/>
          <p:cNvPicPr/>
          <p:nvPr/>
        </p:nvPicPr>
        <p:blipFill>
          <a:blip r:embed="rId1"/>
          <a:stretch/>
        </p:blipFill>
        <p:spPr>
          <a:xfrm>
            <a:off x="6477120" y="152280"/>
            <a:ext cx="1433520" cy="21513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6" descr="j0289350.jpg"/>
          <p:cNvPicPr/>
          <p:nvPr/>
        </p:nvPicPr>
        <p:blipFill>
          <a:blip r:embed="rId2"/>
          <a:stretch/>
        </p:blipFill>
        <p:spPr>
          <a:xfrm>
            <a:off x="7467480" y="1752480"/>
            <a:ext cx="150192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Successfully Completing LLP Projec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143000"/>
            <a:ext cx="822960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nvaluable Docu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he Grant Agreement [GA]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swers the majority of your ques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he Description of Work [DoW] – Annex 1 of the G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scribes what you are expected to do and how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tails the work plan, expected results, budget distribution per work packa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vides the list of Deliverables with requested month of deliver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Please be aware that any significant changes to the description of work will require approval by the Commission in the form of an amendmen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***Reviewers will evaluate your work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against the DoW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***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3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1E1B5-BC0C-448B-A3D9-9F4052FC149A}" type="slidenum">
              <a:rPr b="0" lang="nl-BE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Distributing Payments to Partner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artnership agreements will be sent to you all in April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Your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1</a:t>
            </a:r>
            <a:r>
              <a:rPr b="0" lang="en-GB" sz="2200" spc="-1" strike="noStrike" baseline="30000">
                <a:solidFill>
                  <a:srgbClr val="000000"/>
                </a:solidFill>
                <a:latin typeface="Calibri"/>
              </a:rPr>
              <a:t>st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instalment (75% of your grant) will be paid to you within 60 days of your signed partnership agreement being received at the EUN offices)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The balance payment will be paid to you within 60 days of the Agency approving the final report and the final financial statemen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0EA86-CDA1-466C-A361-B189FD73CA96}" type="slidenum">
              <a:rPr b="0" lang="nl-BE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The Role of the Partne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519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s a partner, you will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Designate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one or more persons who will direct the work and ensure that the partner tasks (as specified in the work packages) are carried out to the required standar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Forward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all data needed to draw up the deliverables to the coordinator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Forward complete accurate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financial statements to the coordinat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8EA88-6ED9-49F7-A536-7273B87AE57B}" type="slidenum">
              <a:rPr b="0" lang="nl-BE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1" descr=""/>
          <p:cNvPicPr/>
          <p:nvPr/>
        </p:nvPicPr>
        <p:blipFill>
          <a:blip r:embed="rId1"/>
          <a:stretch/>
        </p:blipFill>
        <p:spPr>
          <a:xfrm>
            <a:off x="3995640" y="1260360"/>
            <a:ext cx="1116000" cy="863640"/>
          </a:xfrm>
          <a:prstGeom prst="rect">
            <a:avLst/>
          </a:prstGeom>
          <a:ln w="0">
            <a:noFill/>
          </a:ln>
        </p:spPr>
      </p:pic>
      <p:sp>
        <p:nvSpPr>
          <p:cNvPr id="59" name="Text Box 5"/>
          <p:cNvSpPr/>
          <p:nvPr/>
        </p:nvSpPr>
        <p:spPr>
          <a:xfrm>
            <a:off x="108000" y="1503360"/>
            <a:ext cx="24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cc3300"/>
                </a:solidFill>
                <a:latin typeface="Arial"/>
              </a:rPr>
              <a:t>Reporting to E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6"/>
          <p:cNvSpPr/>
          <p:nvPr/>
        </p:nvSpPr>
        <p:spPr>
          <a:xfrm flipV="1">
            <a:off x="5143680" y="3809880"/>
            <a:ext cx="9360" cy="990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7"/>
          <p:cNvSpPr/>
          <p:nvPr/>
        </p:nvSpPr>
        <p:spPr>
          <a:xfrm>
            <a:off x="3564000" y="4941720"/>
            <a:ext cx="1828800" cy="642960"/>
          </a:xfrm>
          <a:prstGeom prst="roundRect">
            <a:avLst>
              <a:gd name="adj" fmla="val 16667"/>
            </a:avLst>
          </a:prstGeom>
          <a:solidFill>
            <a:srgbClr val="b3bb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artn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8"/>
          <p:cNvSpPr/>
          <p:nvPr/>
        </p:nvSpPr>
        <p:spPr>
          <a:xfrm flipV="1">
            <a:off x="4572000" y="2133360"/>
            <a:ext cx="1440" cy="726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10"/>
          <p:cNvSpPr/>
          <p:nvPr/>
        </p:nvSpPr>
        <p:spPr>
          <a:xfrm>
            <a:off x="179280" y="3311640"/>
            <a:ext cx="8640720" cy="14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11"/>
          <p:cNvSpPr/>
          <p:nvPr/>
        </p:nvSpPr>
        <p:spPr>
          <a:xfrm>
            <a:off x="2484360" y="3002040"/>
            <a:ext cx="4230720" cy="614160"/>
          </a:xfrm>
          <a:prstGeom prst="roundRect">
            <a:avLst>
              <a:gd name="adj" fmla="val 16667"/>
            </a:avLst>
          </a:prstGeom>
          <a:solidFill>
            <a:srgbClr val="ff94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LINKED Management T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2"/>
          <p:cNvSpPr/>
          <p:nvPr/>
        </p:nvSpPr>
        <p:spPr>
          <a:xfrm>
            <a:off x="108000" y="1503360"/>
            <a:ext cx="24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cc3300"/>
                </a:solidFill>
                <a:latin typeface="Arial"/>
              </a:rPr>
              <a:t>Reporting to E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3"/>
          <p:cNvSpPr/>
          <p:nvPr/>
        </p:nvSpPr>
        <p:spPr>
          <a:xfrm>
            <a:off x="108000" y="1503360"/>
            <a:ext cx="24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porting to E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4"/>
          <p:cNvSpPr/>
          <p:nvPr/>
        </p:nvSpPr>
        <p:spPr>
          <a:xfrm>
            <a:off x="216000" y="3411360"/>
            <a:ext cx="22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porting to E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Slide Number Placeholder 2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FB315-25E3-446C-8C31-6AC6ED45AE64}" type="slidenum">
              <a:rPr b="0" lang="nl-BE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Reporting Structur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Line 6"/>
          <p:cNvSpPr/>
          <p:nvPr/>
        </p:nvSpPr>
        <p:spPr>
          <a:xfrm flipV="1">
            <a:off x="3924360" y="3809880"/>
            <a:ext cx="9360" cy="990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2876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eporting Structure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for Financial and Legal Mat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28760" y="1428840"/>
            <a:ext cx="8229600" cy="501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alibri"/>
              </a:rPr>
              <a:t>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alibri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eo Guilfoyle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(EUN Project Support Team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One administrative representative from 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Calibri"/>
              </a:rPr>
              <a:t>each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Partner organisation preferably from respective finance departments (details of this individual should be found on the Google doc)</a:t>
            </a:r>
            <a:r>
              <a:rPr b="0" lang="en-GB" sz="2400" spc="-1" strike="noStrike">
                <a:solidFill>
                  <a:srgbClr val="ffff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Slide Number Placeholder 10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C5310-D1DD-4996-9227-45AA44381A08}" type="slidenum">
              <a:rPr b="0" lang="nl-BE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2"/>
          <p:cNvSpPr/>
          <p:nvPr/>
        </p:nvSpPr>
        <p:spPr>
          <a:xfrm flipV="1">
            <a:off x="4500720" y="2785680"/>
            <a:ext cx="0" cy="539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2"/>
          <p:cNvSpPr/>
          <p:nvPr/>
        </p:nvSpPr>
        <p:spPr>
          <a:xfrm flipV="1">
            <a:off x="4500720" y="4220640"/>
            <a:ext cx="0" cy="971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1" descr=""/>
          <p:cNvPicPr/>
          <p:nvPr/>
        </p:nvPicPr>
        <p:blipFill>
          <a:blip r:embed="rId1"/>
          <a:stretch/>
        </p:blipFill>
        <p:spPr>
          <a:xfrm>
            <a:off x="3929040" y="1857240"/>
            <a:ext cx="1116000" cy="863640"/>
          </a:xfrm>
          <a:prstGeom prst="rect">
            <a:avLst/>
          </a:prstGeom>
          <a:ln w="0">
            <a:noFill/>
          </a:ln>
        </p:spPr>
      </p:pic>
      <p:sp>
        <p:nvSpPr>
          <p:cNvPr id="77" name="Text Box 13"/>
          <p:cNvSpPr/>
          <p:nvPr/>
        </p:nvSpPr>
        <p:spPr>
          <a:xfrm>
            <a:off x="214200" y="1857240"/>
            <a:ext cx="24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cc3300"/>
                </a:solidFill>
                <a:latin typeface="Arial"/>
              </a:rPr>
              <a:t>Reporting to E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4"/>
          <p:cNvSpPr/>
          <p:nvPr/>
        </p:nvSpPr>
        <p:spPr>
          <a:xfrm>
            <a:off x="357120" y="4000680"/>
            <a:ext cx="22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cc3300"/>
                </a:solidFill>
                <a:latin typeface="Arial"/>
              </a:rPr>
              <a:t>Reporting to E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Partner Reporting Requiremen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395280" y="1341360"/>
            <a:ext cx="822960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nl-BE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nl-BE" sz="2400" spc="-1" strike="noStrike">
                <a:solidFill>
                  <a:srgbClr val="000000"/>
                </a:solidFill>
                <a:latin typeface="Calibri"/>
              </a:rPr>
              <a:t>Detailed financial report </a:t>
            </a:r>
            <a:r>
              <a:rPr b="1" i="1" lang="nl-BE" sz="2400" spc="-1" strike="noStrike">
                <a:solidFill>
                  <a:srgbClr val="000000"/>
                </a:solidFill>
                <a:latin typeface="Calibri"/>
              </a:rPr>
              <a:t>with</a:t>
            </a:r>
            <a:r>
              <a:rPr b="0" i="1" lang="nl-BE" sz="2400" spc="-1" strike="noStrike">
                <a:solidFill>
                  <a:srgbClr val="000000"/>
                </a:solidFill>
                <a:latin typeface="Calibri"/>
              </a:rPr>
              <a:t> supporting documents to be submitted to EUN at final report stage (Report due – 31st January 2011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Calibri"/>
              </a:rPr>
              <a:t>Complete</a:t>
            </a:r>
            <a:r>
              <a:rPr b="0" i="1" lang="nl-BE" sz="2400" spc="-1" strike="noStrike">
                <a:solidFill>
                  <a:srgbClr val="000000"/>
                </a:solidFill>
                <a:latin typeface="Calibri"/>
              </a:rPr>
              <a:t> a SHORT questionaire (which will be sent to you next month with your partnership agreement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nl-BE" sz="24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nl-BE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nl-BE" sz="2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i="1" lang="nl-BE" sz="2400" spc="-1" strike="noStrike">
                <a:solidFill>
                  <a:srgbClr val="000000"/>
                </a:solidFill>
                <a:latin typeface="Calibri"/>
              </a:rPr>
              <a:t>WHY IS THIS QUESTIONAIRE NECESSARY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nl-BE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nl-BE" sz="2200" spc="-1" strike="noStrike">
                <a:solidFill>
                  <a:srgbClr val="000000"/>
                </a:solidFill>
                <a:latin typeface="Calibri"/>
              </a:rPr>
              <a:t>TO ENSURE THAT YOUR COSTS ARE ELIGIBLE AND ARE CONSISTENT WITH THOSE PROJECTED IN THE PROPOSAL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CCF47-6AFD-4FCD-847F-1ED2CE682164}" type="slidenum">
              <a:rPr b="0" lang="nl-BE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Calibri"/>
              </a:rPr>
              <a:t>Reporting on LLP projec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419120"/>
            <a:ext cx="8229600" cy="488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nl-BE" sz="2400" spc="-1" strike="noStrike">
                <a:solidFill>
                  <a:srgbClr val="000000"/>
                </a:solidFill>
                <a:latin typeface="Calibri"/>
              </a:rPr>
              <a:t>Familiarise yourself with the following heading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Calibri"/>
              </a:rPr>
              <a:t>Co-funding princip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Calibri"/>
              </a:rPr>
              <a:t>Reporting templates (To be given to you at month 6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Calibri"/>
              </a:rPr>
              <a:t>Eligible and ineligble project cos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Calibri"/>
              </a:rPr>
              <a:t>Rules concerning Staff cos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Calibri"/>
              </a:rPr>
              <a:t>LLP guidelines on Travel &amp; Subsistence cos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Calibri"/>
              </a:rPr>
              <a:t>Subcontract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Calibri"/>
              </a:rPr>
              <a:t>Rules concerning Other cos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Calibri"/>
              </a:rPr>
              <a:t>Indirect costs in LLP projec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BC0C5-1BBF-41ED-BA7A-B21BA3AE28B0}" type="slidenum">
              <a:rPr b="0" lang="nl-BE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F4996-C3D7-457A-8E76-35E37B90DADC}" type="slidenum">
              <a:rPr b="0" lang="nl-BE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2400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Calibri"/>
              </a:rPr>
              <a:t>CO-FUNDING PRINCIPL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5904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INKED</a:t>
            </a:r>
            <a:r>
              <a:rPr b="0" lang="nl-BE" sz="2400" spc="-1" strike="noStrike">
                <a:solidFill>
                  <a:srgbClr val="000000"/>
                </a:solidFill>
                <a:latin typeface="Calibri"/>
              </a:rPr>
              <a:t> is a EC GRANT PROJECT: part EC funded/part partnership fund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INKED</a:t>
            </a:r>
            <a:r>
              <a:rPr b="0" lang="nl-BE" sz="2400" spc="-1" strike="noStrike">
                <a:solidFill>
                  <a:srgbClr val="000000"/>
                </a:solidFill>
                <a:latin typeface="Calibri"/>
              </a:rPr>
              <a:t> TOTAL BUDGET = €248,980.4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Calibri"/>
              </a:rPr>
              <a:t>EC FUNDING (GRANT)  75% = €186,735.3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Calibri"/>
              </a:rPr>
              <a:t>CONTRIBUTION FROM PARTNERS 25% = €62,245.1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LINKED Budget Overview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2192" descr=""/>
          <p:cNvPicPr/>
          <p:nvPr/>
        </p:nvPicPr>
        <p:blipFill>
          <a:blip r:embed="rId1"/>
          <a:stretch/>
        </p:blipFill>
        <p:spPr>
          <a:xfrm>
            <a:off x="250920" y="1628640"/>
            <a:ext cx="8692920" cy="39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9T18:57:50Z</dcterms:created>
  <dc:creator>PB CONSULT</dc:creator>
  <dc:description/>
  <dc:language>en-US</dc:language>
  <cp:lastModifiedBy>Administrator</cp:lastModifiedBy>
  <dcterms:modified xsi:type="dcterms:W3CDTF">2010-03-17T11:20:19Z</dcterms:modified>
  <cp:revision>204</cp:revision>
  <dc:subject/>
  <dc:title>INSPIRE</dc:title>
</cp:coreProperties>
</file>